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198-9951-49F0-9EA2-669ACC4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DF9-3FB0-45CD-978D-72BEA75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08B-55F9-4FE2-8692-0385C868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4C4-D972-458E-B8EE-B9E48077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6BE-C028-4381-B316-16131C25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A6F-09DB-4CD9-A0EB-A5B3124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16F-8D9D-4FD4-A127-CF529538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872-6935-48E9-9FB6-4BEE619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F2C-4209-41B4-BA92-B75CD6CF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9A4-9D06-4C3A-8046-7F9963F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274-FB97-4949-8B43-6B3E5FB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E9C-E28F-4303-8CE5-E419020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FEC4-3041-4A9A-8EC3-53BF52C4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mputereinsatz zur Methode der kleinsten Schritte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 JgSt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 AB und dann ab an die Rechn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14400" y="1371600"/>
          <a:ext cx="7238880" cy="48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23888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708440" y="25909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V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0481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x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3048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x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84760" y="4800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a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2578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257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a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 AB und dann ab an die Rechn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268280"/>
          <a:ext cx="785808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785808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124000" y="2455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3320" y="4361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53360" y="4361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7400" y="50054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x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7720" y="50054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v(t)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a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de-DE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0" y="4776840"/>
            <a:ext cx="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4776840"/>
            <a:ext cx="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7880" y="4776840"/>
            <a:ext cx="1371600" cy="622080"/>
          </a:xfrm>
          <a:custGeom>
            <a:avLst/>
            <a:gdLst/>
            <a:ahLst/>
            <a:rect l="l" t="t" r="r" b="b"/>
            <a:pathLst>
              <a:path w="864" h="392">
                <a:moveTo>
                  <a:pt x="0" y="0"/>
                </a:moveTo>
                <a:cubicBezTo>
                  <a:pt x="72" y="140"/>
                  <a:pt x="144" y="280"/>
                  <a:pt x="288" y="336"/>
                </a:cubicBezTo>
                <a:cubicBezTo>
                  <a:pt x="432" y="392"/>
                  <a:pt x="768" y="336"/>
                  <a:pt x="864" y="3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7920" y="4776840"/>
            <a:ext cx="1371600" cy="622080"/>
          </a:xfrm>
          <a:custGeom>
            <a:avLst/>
            <a:gdLst/>
            <a:ahLst/>
            <a:rect l="l" t="t" r="r" b="b"/>
            <a:pathLst>
              <a:path w="864" h="392">
                <a:moveTo>
                  <a:pt x="0" y="0"/>
                </a:moveTo>
                <a:cubicBezTo>
                  <a:pt x="72" y="140"/>
                  <a:pt x="144" y="280"/>
                  <a:pt x="288" y="336"/>
                </a:cubicBezTo>
                <a:cubicBezTo>
                  <a:pt x="432" y="392"/>
                  <a:pt x="768" y="336"/>
                  <a:pt x="864" y="3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48360" y="1268280"/>
            <a:ext cx="280836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052640"/>
          <a:ext cx="8120160" cy="53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1201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 AB und dann ab an die Rechn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4340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308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47960" y="4708440"/>
            <a:ext cx="4724280" cy="622440"/>
            <a:chOff x="2847960" y="4708440"/>
            <a:chExt cx="4724280" cy="622440"/>
          </a:xfrm>
        </p:grpSpPr>
        <p:sp>
          <p:nvSpPr>
            <p:cNvPr id="70" name=""/>
            <p:cNvSpPr/>
            <p:nvPr/>
          </p:nvSpPr>
          <p:spPr>
            <a:xfrm>
              <a:off x="5667480" y="49370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x(t)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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v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7440" y="4937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v(t)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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a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10080" y="4708440"/>
              <a:ext cx="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96080" y="4708440"/>
              <a:ext cx="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7960" y="4708440"/>
              <a:ext cx="1371600" cy="622440"/>
            </a:xfrm>
            <a:custGeom>
              <a:avLst/>
              <a:gdLst/>
              <a:ahLst/>
              <a:rect l="l" t="t" r="r" b="b"/>
              <a:pathLst>
                <a:path w="864" h="392">
                  <a:moveTo>
                    <a:pt x="0" y="0"/>
                  </a:moveTo>
                  <a:cubicBezTo>
                    <a:pt x="72" y="140"/>
                    <a:pt x="144" y="280"/>
                    <a:pt x="288" y="336"/>
                  </a:cubicBezTo>
                  <a:cubicBezTo>
                    <a:pt x="432" y="392"/>
                    <a:pt x="768" y="336"/>
                    <a:pt x="864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57640" y="4708440"/>
              <a:ext cx="1371600" cy="622440"/>
            </a:xfrm>
            <a:custGeom>
              <a:avLst/>
              <a:gdLst/>
              <a:ahLst/>
              <a:rect l="l" t="t" r="r" b="b"/>
              <a:pathLst>
                <a:path w="864" h="392">
                  <a:moveTo>
                    <a:pt x="0" y="0"/>
                  </a:moveTo>
                  <a:cubicBezTo>
                    <a:pt x="72" y="140"/>
                    <a:pt x="144" y="280"/>
                    <a:pt x="288" y="336"/>
                  </a:cubicBezTo>
                  <a:cubicBezTo>
                    <a:pt x="432" y="392"/>
                    <a:pt x="768" y="336"/>
                    <a:pt x="864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6167520" y="1844640"/>
          <a:ext cx="11714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7520" y="1844640"/>
                    <a:ext cx="11714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476360" y="4797360"/>
          <a:ext cx="11527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797360"/>
                    <a:ext cx="1152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467080" y="4251240"/>
            <a:ext cx="990360" cy="533520"/>
          </a:xfrm>
          <a:custGeom>
            <a:avLst/>
            <a:gdLst/>
            <a:ahLst/>
            <a:rect l="l" t="t" r="r" b="b"/>
            <a:pathLst>
              <a:path w="624" h="392">
                <a:moveTo>
                  <a:pt x="624" y="48"/>
                </a:moveTo>
                <a:cubicBezTo>
                  <a:pt x="408" y="24"/>
                  <a:pt x="192" y="0"/>
                  <a:pt x="96" y="48"/>
                </a:cubicBezTo>
                <a:cubicBezTo>
                  <a:pt x="0" y="96"/>
                  <a:pt x="56" y="280"/>
                  <a:pt x="48" y="336"/>
                </a:cubicBezTo>
                <a:cubicBezTo>
                  <a:pt x="40" y="392"/>
                  <a:pt x="44" y="388"/>
                  <a:pt x="48" y="384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0720" y="429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304920"/>
          <a:ext cx="845820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49092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0096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480" y="5715000"/>
            <a:ext cx="4724640" cy="622440"/>
            <a:chOff x="2895480" y="5715000"/>
            <a:chExt cx="4724640" cy="622440"/>
          </a:xfrm>
        </p:grpSpPr>
        <p:sp>
          <p:nvSpPr>
            <p:cNvPr id="87" name=""/>
            <p:cNvSpPr/>
            <p:nvPr/>
          </p:nvSpPr>
          <p:spPr>
            <a:xfrm>
              <a:off x="5715000" y="5943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x(t)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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v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59436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v(t)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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a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·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de-DE" sz="1800" spc="-1" strike="noStrike">
                  <a:solidFill>
                    <a:srgbClr val="0000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5715000"/>
              <a:ext cx="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3600" y="5715000"/>
              <a:ext cx="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95480" y="5715000"/>
              <a:ext cx="1371600" cy="622440"/>
            </a:xfrm>
            <a:custGeom>
              <a:avLst/>
              <a:gdLst/>
              <a:ahLst/>
              <a:rect l="l" t="t" r="r" b="b"/>
              <a:pathLst>
                <a:path w="864" h="392">
                  <a:moveTo>
                    <a:pt x="0" y="0"/>
                  </a:moveTo>
                  <a:cubicBezTo>
                    <a:pt x="72" y="140"/>
                    <a:pt x="144" y="280"/>
                    <a:pt x="288" y="336"/>
                  </a:cubicBezTo>
                  <a:cubicBezTo>
                    <a:pt x="432" y="392"/>
                    <a:pt x="768" y="336"/>
                    <a:pt x="864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5715000"/>
              <a:ext cx="1371600" cy="622440"/>
            </a:xfrm>
            <a:custGeom>
              <a:avLst/>
              <a:gdLst/>
              <a:ahLst/>
              <a:rect l="l" t="t" r="r" b="b"/>
              <a:pathLst>
                <a:path w="864" h="392">
                  <a:moveTo>
                    <a:pt x="0" y="0"/>
                  </a:moveTo>
                  <a:cubicBezTo>
                    <a:pt x="72" y="140"/>
                    <a:pt x="144" y="280"/>
                    <a:pt x="288" y="336"/>
                  </a:cubicBezTo>
                  <a:cubicBezTo>
                    <a:pt x="432" y="392"/>
                    <a:pt x="768" y="336"/>
                    <a:pt x="864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3657600" y="1600200"/>
          <a:ext cx="8380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838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38440" y="255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4600" y="2631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9720" y="2631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992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43000" y="3165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5791320"/>
          <a:ext cx="83808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791320"/>
                    <a:ext cx="838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38280" y="5168880"/>
            <a:ext cx="3505320" cy="698400"/>
          </a:xfrm>
          <a:custGeom>
            <a:avLst/>
            <a:gdLst/>
            <a:ahLst/>
            <a:rect l="l" t="t" r="r" b="b"/>
            <a:pathLst>
              <a:path w="2208" h="440">
                <a:moveTo>
                  <a:pt x="2208" y="104"/>
                </a:moveTo>
                <a:cubicBezTo>
                  <a:pt x="1624" y="52"/>
                  <a:pt x="1040" y="0"/>
                  <a:pt x="672" y="56"/>
                </a:cubicBezTo>
                <a:cubicBezTo>
                  <a:pt x="304" y="112"/>
                  <a:pt x="152" y="276"/>
                  <a:pt x="0" y="440"/>
                </a:cubicBezTo>
              </a:path>
            </a:pathLst>
          </a:custGeom>
          <a:noFill/>
          <a:ln w="284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9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0:56:45Z</dcterms:created>
  <dc:creator>Johannes Günther</dc:creator>
  <dc:description/>
  <dc:language>en-US</dc:language>
  <cp:lastModifiedBy>Johannes</cp:lastModifiedBy>
  <dcterms:modified xsi:type="dcterms:W3CDTF">2011-09-19T14:51:11Z</dcterms:modified>
  <cp:revision>4</cp:revision>
  <dc:subject/>
  <dc:title>Computereinsatz zur Methode der kleinsten Schritte  in JgSt 10 (G8)</dc:title>
</cp:coreProperties>
</file>